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whoosh.wav" ContentType="audio/x-wav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98C9-B2F4-4BEC-9235-830FDCD9D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6280-62E7-4675-A577-7B5710546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84A4-BDDC-4673-89BE-6FF4253A4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489D-A262-45BB-AC6B-699C7855A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3D6CD-A8F4-4105-A522-574C33E5F7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6A510-A236-4236-AC94-E4D450B9C5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E0301-2297-466A-BF11-88960AE01D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65577-F34C-4C4D-96BE-276BA054B1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0EB27-6CEC-4FDD-8C63-48A6F4B22C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240" y="16344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F9C8A-1032-4AE3-96B9-F636A0CCF5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22075-9B73-4360-8878-9B699D228C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8C95-B1E4-4DB9-A8ED-F8331977A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118C5-734A-4F13-A32A-8AF4C34BE8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E1E8A-838E-4DB7-BB46-CDAEE3119E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FD438-6DFE-4158-9A19-B4B540B6B3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7A610-F148-4F39-A4B7-3D65C1733F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4112F-6186-4101-ACFB-1E97FDF164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3480-55A5-4201-86C5-60257A16D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FFDC-07B2-4813-98CF-679066CE2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5B1F-A93F-4435-B583-B3B5453A4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6344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653E-5584-40E6-B41E-3EB78B28A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28D4-87C2-4C63-9015-A3390E5A3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3B1C-33F0-416C-B4C0-F3500395D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B3657-B21C-440B-A30D-327E49698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AA7B5-9CD3-44A9-974C-B57163677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FACC6F3-E104-47E4-A3E9-882366A377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Adaptation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How have these animals these adapted to their environment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05320" y="380880"/>
            <a:ext cx="2570040" cy="4876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762120" y="380880"/>
            <a:ext cx="2743200" cy="1828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ct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 rot="16860000">
            <a:off x="5293440" y="1948320"/>
            <a:ext cx="3427200" cy="3200400"/>
          </a:xfrm>
          <a:prstGeom prst="upArrowCallout">
            <a:avLst>
              <a:gd name="adj1" fmla="val 12881"/>
              <a:gd name="adj2" fmla="val 9142"/>
              <a:gd name="adj3" fmla="val 17977"/>
              <a:gd name="adj4" fmla="val 522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The prickles on a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cactus are it’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leaves. It has very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small leaves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The cactu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does not loos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As much moistur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this wa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209680"/>
            <a:ext cx="2666880" cy="2133720"/>
          </a:xfrm>
          <a:prstGeom prst="rightArrowCallout">
            <a:avLst>
              <a:gd name="adj1" fmla="val 10566"/>
              <a:gd name="adj2" fmla="val 12870"/>
              <a:gd name="adj3" fmla="val 23354"/>
              <a:gd name="adj4" fmla="val 739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The cactus sto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Water in the it’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Very wid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Fleshy ste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60000">
            <a:off x="2747520" y="4952880"/>
            <a:ext cx="3733920" cy="1676520"/>
          </a:xfrm>
          <a:prstGeom prst="upArrowCallout">
            <a:avLst>
              <a:gd name="adj1" fmla="val 24811"/>
              <a:gd name="adj2" fmla="val 21777"/>
              <a:gd name="adj3" fmla="val 19843"/>
              <a:gd name="adj4" fmla="val 579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The Cactus ha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Very long roots that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Draw moisture from deep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2" name="whoosh.wav"/>
                            </p:tgtEl>
                          </p:cMediaNode>
                        </p:audio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ame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Has long legs to keep body away from hot san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Can store fat in hump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Can go for long periods without water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292720" y="2060640"/>
            <a:ext cx="2592360" cy="3960720"/>
            <a:chOff x="5292720" y="2060640"/>
            <a:chExt cx="2592360" cy="396072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5292720" y="2060640"/>
              <a:ext cx="259236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292720" y="2060640"/>
              <a:ext cx="2592360" cy="39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ame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Can close nostrils to keep out sand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Has long eyelashes to keep out sand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Many blood vessels just under the skin to cool the blood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762440" y="2433600"/>
            <a:ext cx="3581640" cy="3210120"/>
            <a:chOff x="4762440" y="2433600"/>
            <a:chExt cx="3581640" cy="321012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4762440" y="2433600"/>
              <a:ext cx="3581640" cy="32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762440" y="2433600"/>
              <a:ext cx="3581640" cy="32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Polar Bea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Has white fur for camouflag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Each hair is hollow for extra insulatio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Has sharp teeth and claws to catch and eat prey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Has ridged foot pads to prevent slipping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648320" y="2514600"/>
            <a:ext cx="3809880" cy="3048120"/>
            <a:chOff x="4648320" y="2514600"/>
            <a:chExt cx="3809880" cy="304812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4648320" y="2514600"/>
              <a:ext cx="380988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648320" y="2514600"/>
              <a:ext cx="380988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Pengui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Has thick layer of fat to keep warm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Produces oil to keep feathers waterproof.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Stream lined body for swimming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786280" y="1500120"/>
            <a:ext cx="2428920" cy="4159440"/>
            <a:chOff x="5786280" y="1500120"/>
            <a:chExt cx="2428920" cy="415944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5786280" y="1500120"/>
              <a:ext cx="2428920" cy="41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786280" y="1500120"/>
              <a:ext cx="2428920" cy="41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Golden Eagl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Large wing span for gliding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Sharp talons for catching and holding prey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Hooked beak for tearing mea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Large eyes for spotting prey from great distance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48320" y="2610000"/>
            <a:ext cx="3809880" cy="2857320"/>
            <a:chOff x="4648320" y="2610000"/>
            <a:chExt cx="3809880" cy="285732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648320" y="2610000"/>
              <a:ext cx="3809880" cy="28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648320" y="2610000"/>
              <a:ext cx="380988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Shark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Stream lined body for swimming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Fins to propel through the water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Sharp teeth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Gills to breath under water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648320" y="2747880"/>
            <a:ext cx="3809880" cy="2581200"/>
            <a:chOff x="4648320" y="2747880"/>
            <a:chExt cx="3809880" cy="258120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4648320" y="2747880"/>
              <a:ext cx="3809880" cy="25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648320" y="2747880"/>
              <a:ext cx="3809880" cy="25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Ostrich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Long legs to run fas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Large eyes to see long distance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Long feathers to provide more shade to eggs and to keep body warm at nigh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292720" y="2133720"/>
            <a:ext cx="2592360" cy="3959280"/>
            <a:chOff x="5292720" y="2133720"/>
            <a:chExt cx="2592360" cy="395928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5292720" y="2133720"/>
              <a:ext cx="2592360" cy="39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292720" y="2133720"/>
              <a:ext cx="2592360" cy="39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4:30:10Z</dcterms:created>
  <dc:creator>alice</dc:creator>
  <dc:description/>
  <dc:language>en-US</dc:language>
  <cp:lastModifiedBy>Pitchford</cp:lastModifiedBy>
  <dcterms:modified xsi:type="dcterms:W3CDTF">2007-02-05T15:33:45Z</dcterms:modified>
  <cp:revision>8</cp:revision>
  <dc:subject/>
  <dc:title>Adaptation </dc:title>
</cp:coreProperties>
</file>